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39D-98FD-403D-916F-ACADE821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424-3561-4212-ADB9-74C2CE9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682-406A-4AA1-A16B-E0D5B34D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94E-01A7-4734-8DC5-D22D9D21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BA4-96DD-45E7-A9C6-3AAF6F04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C33-5F94-491E-80BC-4E8C489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4F0-50E5-4ED5-A6E6-9ED259C3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36C-A6DD-4098-9E7D-5FA3ACBA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37D-CB2A-47E3-921F-6F4E9FD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A9C-83D8-4D54-AA46-842F813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2FD-8B66-48FE-8CCD-A489F08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41F-D5B1-464D-8548-59D711E9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292D-9316-47CC-8DDB-71CD0E8878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anced Problems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oblems will conta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concepts of velocity and accele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of proper physics 1 kinematics equ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alculus techniques, such as derivatives and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a bullet as it travels down a barrel of a rifle toward the opening is given by v = -5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3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. The acceleration of the bullet as it just leaves the barrel is z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he acceleration and position of the bullet as a function of time when the bullet is in the barr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he length of time the bullet is accele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peed at which the bullet leaves the barr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ength of the barr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57200"/>
            <a:ext cx="80769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ring ranch hand sitting on a tree limb wishes to drop vertically onto a horse galloping under a tree. The speed of the horse is 10m/s, and the distance from the limb to saddle is 3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ust be the horizontal distance between the limb and the saddle when the ranch hand drop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57200"/>
            <a:ext cx="807696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st rocket is fired vertically upward from a well. A catapult gives it an initial velocity of 80m/s at ground level. Subsequently, its engines fire and it accelerates upward at 4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til it reaches an altitude of 1000m. At that point the engines fail, and the rocket goes into free 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is the rocket in motion above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ts maximum altitu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ts velocity just before it hits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7200"/>
            <a:ext cx="807696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ysics student and a mountain climber climbs a 50m cliff that overhangs a calm pool of water. He throws two stones vertically downward, 1second apart, and observes that they cause a single splash. The first stone has an initial speed of 2m/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after the release of the first stone do the stones hit the w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initial velocity of the second 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velocity of each stone at the instant the two hit the w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57200"/>
            <a:ext cx="807696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standing on the ground at the origin of a coordinate system. An airplane flies over you with constant velocity parallel to the x axis and at a constant height of 7.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. At t=0, the plane is directly above you. At t=30s, the position vector from you to it is given b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8.04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(7.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Determine the magnitude and orientation of the plane’s position at t=45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57200"/>
            <a:ext cx="8076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displacement ve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 (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 and B= (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 find the magnitudes of C = A + B and D = 2A – B also expressing each in terms of its x, y, and z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57200"/>
            <a:ext cx="80769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adar station locates a sinking ship at range 17.3km and bearing 13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 clockwise from north. From the same station a rescue plane is at horizontal range 19.6km 153° clockwise from north. With elevation 2.2 k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he vector displacement from plane to ship lett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resent east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present north,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present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far apart are the plane and shi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7200"/>
            <a:ext cx="80769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vector is given by R=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 the magnitudes of the x, y, and z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Find the magnitude of 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. Find the angles between R and the x, y, and z 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5720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general, the instantaneous position of an object is specified by its position P leading from a fixed origin to the location of the object. Suppose that P=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2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ere P is in meters and t is in seconds what is the derivative of this position function? What does this derivative represent about the obje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destructible bullet 2cm long is fired straight through a board that is 10cm thick. The bullet strikes the board with a speed of 420m/s and emerges with a speed of 280m/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verage acceleration of the bullet as it passes through the boar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5720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jet airliner, moving initially at 300mi/h to the east, suddenly enters a region where the wind is blowing at 100mi/h in a direction 30° north of east. What are the new speed and direction of the aircraft relative to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ish swimming in a horizontal plane has velocity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/s at a point in the ocean whose displacement from a certain rock is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. After the fish swims with constant acceleration for 20s, its velocity is v = (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/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mponents of the accel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rection of the acceleration with respect to the unit vect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fish at t=25s if it maintains its original acceleration and in what direction is it mov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cle initially located at the origin has an acceleration of a = 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n initial velocity of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/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vector position and velocity at any time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coordinates and speed of the particle at t=2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 A projectile is fired in such a way that its horizontal range is equal to 3 times its maximum height. What is the angle of projec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cekicker must kick a football from a point 36m from the goal, and half the crowd hopes it will clear the crossbar, which is 3.05m high. When kicked, the ball leaves the ground with a speed of 20m/s at an angle of 5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 to the horizon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 how much does the ball clear or fall short of the crossb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the ball approach the crossbar while still rising or while fal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in slows down as it rounds a sharp horizontal curve, slowing from 90km/h to 50km/h in the 15 seconds that it takes to round the curve. The radius of the curve is 150m. Compute the acceleration at the moment the train speed reaches 50km/h. Assume that the train slows down at a uniform rate during the 15 second inter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termined coyote is out once more to capture the roadrunner. The coyote wears Acme jet powered roller skates which provide constant horizontal acceleration of 15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oyote starts off at rest 70m from the edge of a cliff the instant that the roadrunner zips past him in the direction of the cli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roadrunner moves with constant speed, determine the minimum speed he must have to reach the cliff before the coyo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liff is 100m above the floor of the canyon, determine where the coyote lands after missing the roadrunner (his skates still thrust while in midair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his impact velocit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total time that the bullet is in contact with the boa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ickness of board would it take to stop the bullet (assuming the bullet’s acceleration though the board remains the s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throws a set of keys vertically upward to her sorority sister, who is in a window 4m above. The keys are caught 1.5s later by the sisters outstretched h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initial velocity were the keys thr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velocity of the keys just before they were caugh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ight of a helicopter above the ground is given by h = 3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ere h is in meters and t is in seconds. After 2 seconds, the helicopter releases a small mailbag. How long after its release does the mailbag reach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tive engineers refer to the time rate of change of acceleration as the “jerk”. If an object moves in one dimension such that its jerk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ta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expressions for its acceleration, velocity, and position given that its initial acceleration, velocity and speed are 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ivel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76720" y="304920"/>
                <a:ext cx="40384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1:53:49Z</dcterms:created>
  <dc:creator> Matthew Shrader</dc:creator>
  <dc:description/>
  <dc:language>en-US</dc:language>
  <cp:lastModifiedBy>End User</cp:lastModifiedBy>
  <dcterms:modified xsi:type="dcterms:W3CDTF">2007-01-30T16:12:51Z</dcterms:modified>
  <cp:revision>10</cp:revision>
  <dc:subject/>
  <dc:title>Advanced Problems 1</dc:title>
</cp:coreProperties>
</file>